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425BA-E4A4-49DC-94DE-1155676D6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25EE-6D56-455F-B50E-E1AB72364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38FC3-9DB3-455B-9E36-C009D4A3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0DFF3-5417-44E7-A0F0-5155C8DD7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F4605-5EDA-4130-8C73-DC3ED5AA1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FD8E8-4DE7-4249-AC9A-7A2425852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98BC7-EBF5-43C0-8172-22BC2B013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931EB-FAFB-45C4-B8E6-FC6FB48E0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E20EF-E150-484A-B9FF-AF053B4A1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48FFF-0CB8-4BDC-9F32-82171B9B9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C9B0-7279-4EEF-B061-65A48C22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E5A12-54CE-400A-86BB-135FF2A9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4A212-9D71-4DC1-AFDE-AECC952E0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70BF6-2454-47DA-B42D-1556240DA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3F4F3-C30B-42B0-B557-9B8F59F19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FF6BB-3C2B-477A-BD54-5B58E9B02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ABC27-21E5-4E03-9201-5A1AB3C50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C408-8041-4A51-9823-11A222466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CCE8-5DE9-401F-91A9-55FD329A6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552B-9426-4007-8D69-3EC8B6D2E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E18C5-9AAF-4CE5-9AD6-A2653B9A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4EDC-0C6C-4B21-A5A9-758DF6EE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98F4-A674-4B19-AD1F-081AF662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D312-4901-4B7B-A7CB-AEF606482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00CC-1F03-4F1B-A48F-125623428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5EA4-1604-42FB-9B41-E104415B82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comped@mail.nysed.gov"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Licensed Clinical Social Worker</a:t>
            </a:r>
            <a:endParaRPr b="0" lang="en-US" sz="4800" spc="-1" strike="noStrike">
              <a:solidFill>
                <a:srgbClr val="dbbd71"/>
              </a:solidFill>
              <a:latin typeface="Arial"/>
            </a:endParaRPr>
          </a:p>
        </p:txBody>
      </p:sp>
      <p:sp>
        <p:nvSpPr>
          <p:cNvPr id="153" name="PlaceHolder 2"/>
          <p:cNvSpPr>
            <a:spLocks noGrp="1"/>
          </p:cNvSpPr>
          <p:nvPr>
            <p:ph type="subTitle"/>
          </p:nvPr>
        </p:nvSpPr>
        <p:spPr>
          <a:xfrm>
            <a:off x="380880" y="1447920"/>
            <a:ext cx="7391520" cy="4876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be licensed as a licensed clinical social worker (LCSW) in New York State you mus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of good moral character;</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at least 21 years of age;</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n education that includes a masters degree in social work (M.S.W.) with at least 12 semester hours of clinical coursework acceptable to the Departmen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t least 3 years of post M.S.W. supervised experience in diagnosis, psychotherapy and assessment-based treatment planning acceptable to the Department;</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clinical examination requirements; and</a:t>
            </a:r>
            <a:endParaRPr b="0" lang="en-US" sz="2000" spc="-1" strike="noStrike">
              <a:solidFill>
                <a:srgbClr val="ffffff"/>
              </a:solidFill>
              <a:latin typeface="Tahoma"/>
            </a:endParaRPr>
          </a:p>
          <a:p>
            <a:pPr>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te coursework or training in the identification and reporting of child abuse offered by a New York State approved provider.</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icensed Master Social Worker (LMSW)</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be licensed as a licensed master social worker (LMSW) in New York State you mus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of good moral character as determined by the Departmen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at least 21 years of age;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education requirements;</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examination requirements; and</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te coursework or training in the identification and reporting of child abuse offered by a New York State approved provider.</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ew York LCSW Psychotherapy "R"  State.</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qualify for the privilege, you must be a licensed clinical social worker (LCSW) in New York Sta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must have 36 months of full-time (or the part-time equivalent) supervised experience in psychotherapy after licensure as an LCSW, under the supervision of an LCSW with the “R” privilege, licensed psychologist or licensed physician who is competent in psychology.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equirements For “R”</a:t>
            </a:r>
            <a:endParaRPr b="0" lang="en-US" sz="4000" spc="-1" strike="noStrike">
              <a:solidFill>
                <a:srgbClr val="dbbd71"/>
              </a:solidFill>
              <a:latin typeface="Arial"/>
            </a:endParaRPr>
          </a:p>
        </p:txBody>
      </p:sp>
      <p:sp>
        <p:nvSpPr>
          <p:cNvPr id="159" name="PlaceHolder 2"/>
          <p:cNvSpPr>
            <a:spLocks noGrp="1"/>
          </p:cNvSpPr>
          <p:nvPr>
            <p:ph/>
          </p:nvPr>
        </p:nvSpPr>
        <p:spPr>
          <a:xfrm>
            <a:off x="533520" y="1066320"/>
            <a:ext cx="8229600" cy="5257800"/>
          </a:xfrm>
          <a:prstGeom prst="rect">
            <a:avLst/>
          </a:prstGeom>
          <a:noFill/>
          <a:ln w="0">
            <a:noFill/>
          </a:ln>
        </p:spPr>
        <p:txBody>
          <a:bodyPr anchor="t">
            <a:normAutofit/>
          </a:bodyPr>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and your supervisor must submit documentation using Form 4SWPR and the Psychotherapy Log that verifies the experience which meets the following conditions:</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y the practice of psychotherapy, as defined in the Education Law, is acceptable for the privilege.</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st-LCSW experience must be at least 36 subsequent calendar months of psychotherapy experience. You may not submit less than 400 client contact hours of psychotherapy in any 12-month period.</a:t>
            </a:r>
            <a:endParaRPr b="0" lang="en-US" sz="1800" spc="-1" strike="noStrike">
              <a:solidFill>
                <a:srgbClr val="ffffff"/>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total of 36 months and 2,400 hours of direct client contact after you are licensed as an LCSW is required. Every subsequent month and client contact hour may be counted. </a:t>
            </a: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ervision for the licensed clinical social worker psychotherapy "R" privilege application must consist of individual or group consultation at least two hours per month which may be provided in-person, or by telephone, video conference or internet, or enrollment in a program in psychotherapy in an institution of higher education or a psychotherapy institute chartered by the Board of Regents.</a:t>
            </a: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36 months may not be shortened. Part-time experience will increase the time to complete the required hours.</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lient contact hour is at least 45 minutes of psychotherapy with individuals, families or groups; sessions may be combined.</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upervised experience must be in a setting defined as acceptable to the Department in law and regulation.</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experience must be supervised by an LCSW with the “R” privilege, licensed psychologist, or physician who is competent in psychiatry.</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ct</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Y State Education Department</a:t>
            </a:r>
            <a:br>
              <a:rPr sz="3200"/>
            </a:br>
            <a:r>
              <a:rPr b="0" lang="en-US" sz="3200" spc="-1" strike="noStrike">
                <a:solidFill>
                  <a:srgbClr val="ffffff"/>
                </a:solidFill>
                <a:latin typeface="Tahoma"/>
              </a:rPr>
              <a:t>Office of the Professions</a:t>
            </a:r>
            <a:br>
              <a:rPr sz="3200"/>
            </a:br>
            <a:r>
              <a:rPr b="0" lang="en-US" sz="3200" spc="-1" strike="noStrike">
                <a:solidFill>
                  <a:srgbClr val="ffffff"/>
                </a:solidFill>
                <a:latin typeface="Tahoma"/>
              </a:rPr>
              <a:t>Bureau of Comparative Education</a:t>
            </a:r>
            <a:br>
              <a:rPr sz="3200"/>
            </a:br>
            <a:r>
              <a:rPr b="0" lang="en-US" sz="3200" spc="-1" strike="noStrike">
                <a:solidFill>
                  <a:srgbClr val="ffffff"/>
                </a:solidFill>
                <a:latin typeface="Tahoma"/>
              </a:rPr>
              <a:t>89 Washington Avenue</a:t>
            </a:r>
            <a:br>
              <a:rPr sz="3200"/>
            </a:br>
            <a:r>
              <a:rPr b="0" lang="en-US" sz="3200" spc="-1" strike="noStrike">
                <a:solidFill>
                  <a:srgbClr val="ffffff"/>
                </a:solidFill>
                <a:latin typeface="Tahoma"/>
              </a:rPr>
              <a:t>Albany, New York 12234-1000</a:t>
            </a:r>
            <a:br>
              <a:rPr sz="3200"/>
            </a:br>
            <a:br>
              <a:rPr sz="3200"/>
            </a:br>
            <a:r>
              <a:rPr b="0" lang="en-US" sz="3200" spc="-1" strike="noStrike">
                <a:solidFill>
                  <a:srgbClr val="ffffff"/>
                </a:solidFill>
                <a:latin typeface="Tahoma"/>
              </a:rPr>
              <a:t>518-474-3817, ext. 300 (voice)</a:t>
            </a:r>
            <a:br>
              <a:rPr sz="3200"/>
            </a:br>
            <a:r>
              <a:rPr b="0" lang="en-US" sz="3200" spc="-1" strike="noStrike">
                <a:solidFill>
                  <a:srgbClr val="ffffff"/>
                </a:solidFill>
                <a:latin typeface="Tahoma"/>
              </a:rPr>
              <a:t>518-486-2966 (fax)</a:t>
            </a:r>
            <a:br>
              <a:rPr sz="3200"/>
            </a:br>
            <a:r>
              <a:rPr b="0" lang="en-US" sz="3200" spc="-1" strike="noStrike" u="sng">
                <a:solidFill>
                  <a:srgbClr val="ffcc66"/>
                </a:solidFill>
                <a:uFillTx/>
                <a:latin typeface="Tahoma"/>
                <a:hlinkClick r:id="rId1"/>
              </a:rPr>
              <a:t>comped@mail.nysed.go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36:58Z</dcterms:created>
  <dc:creator>KLSD</dc:creator>
  <dc:description/>
  <dc:language>en-US</dc:language>
  <cp:lastModifiedBy>lallen</cp:lastModifiedBy>
  <dcterms:modified xsi:type="dcterms:W3CDTF">2010-10-27T22:43:25Z</dcterms:modified>
  <cp:revision>2</cp:revision>
  <dc:subject/>
  <dc:title>Licensed Clinical Social Worker</dc:title>
</cp:coreProperties>
</file>